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A358-0B90-4B77-B747-E1FDE49F3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88CB-ABA6-4B97-9337-E363BE5D0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4321-1CCA-4110-84ED-4CFA7015B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26B1-A8C3-4607-BA75-C2B300ED8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9DF1-2B28-4AC8-B560-9C019D807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E18D-45AD-4DBD-8979-2282295E7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1CD3-98C9-4AE4-A842-5EF2515FE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AA56-E26E-4FD1-8EFE-CE1A379FD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C82E-4BE9-4365-9B8E-7D395683E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8C90-3438-4327-AA65-DC8F6C519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2666-5961-4903-8AAE-60A1C5253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794A-3D50-4125-8E82-4C6A0AC59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C55D-75C8-4DBC-A6F4-6B4E4C7E6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192F-2B20-4DAB-B3FB-0996361C7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944F9-52F9-4246-9A8C-C6E285F4CD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48571-F455-43DF-A88C-CF3AAD943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C5374-B145-4084-A945-31101A10F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19C39-F49C-4FC7-85EE-C771A10D7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DC02-EA20-4D14-9E64-36096AA7E6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2332-F8FD-40BC-A201-F1C5C3CD7F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7D5-64B1-4EA8-AE1E-2570B65192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1FB-C19D-43B8-AEEF-BACD51FCC8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CBEB-8DC2-4540-90F1-F68F8FF0A0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AA64-FE8D-4D28-AD19-CFE2DDF253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0963-A634-48BC-8D23-3331D0DDD0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2B5B5-3F5E-45BD-A1C2-C7E97989AD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3215-005B-4AC4-9E91-DDF57343D1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64FE-C1D9-4A0E-9793-DA42E78434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29CF-8C06-4A93-902A-0AD334194C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5BD7-3ADC-4029-8A40-8097D13EAA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73D4-49BA-4755-9CC3-6D65D93860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62C30-D9F7-409B-8A60-C16016540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A79D8-D483-454C-A507-1A2CEED07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8B79B-ECD5-4409-90D9-9E2B19296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00864-BBF7-4B69-96E2-5A65CC29D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9E624-F4C2-4D07-A00A-C424B49AE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9900F-B76A-4431-8002-548BD0042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57474-3097-4920-8D36-327C5C377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14E1-4B81-4F8E-9AEA-1D58204C1A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2EF7-C78B-4A94-89F6-C11EFB9F72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77C6-59FD-457C-80A3-2A6F0769DF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5" name="Text Box 16"/>
          <p:cNvSpPr/>
          <p:nvPr/>
        </p:nvSpPr>
        <p:spPr>
          <a:xfrm>
            <a:off x="2971800" y="1600200"/>
            <a:ext cx="617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des processus : Contrôle qualité des procédures qualitatives et semi quantitativ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39DF-7F0B-40C7-86CE-E6A51FE4FC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ation de contrôles traditionnel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és comm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un contrôle positif et néga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faiblement positif pour les procédures immun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sissez des contrôles positifs proches des valeurs limites (cut-off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pour contrôler la phase d’ex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FE27-888A-42D1-9BE2-070EE9618B9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FFD6-7066-41A7-9833-1747A4DD9B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0" descr="qc_bacteria"/>
          <p:cNvPicPr/>
          <p:nvPr/>
        </p:nvPicPr>
        <p:blipFill>
          <a:blip r:embed="rId1"/>
          <a:stretch/>
        </p:blipFill>
        <p:spPr>
          <a:xfrm>
            <a:off x="6248520" y="2897280"/>
            <a:ext cx="2666880" cy="229716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7CF7-F0ED-487E-AC94-43596114059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ultures de collection pour le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« maison 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ons prévisib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milieux, les réactifs et les consommables fonctionnent comme prév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7" descr="qc_growth_poor_growth_cdc"/>
          <p:cNvPicPr/>
          <p:nvPr/>
        </p:nvPicPr>
        <p:blipFill>
          <a:blip r:embed="rId2"/>
          <a:stretch/>
        </p:blipFill>
        <p:spPr>
          <a:xfrm>
            <a:off x="4419720" y="4919760"/>
            <a:ext cx="28954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DCD8-F9E3-4A43-BD7B-4F12443766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igines des souches de référenc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ATCC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 American Type Culture Collection (USA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TCC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ational Type Culture Collection (UK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IP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llection de l’Institut Pasteur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772C-2D26-4E9B-9329-489FC079831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C0E8-7A1F-4730-B46A-E5B64C3904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6EF6-7D1E-499B-A494-A159BE07F23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colorants sont importants—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enez soin d’eux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89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"/>
          <p:cNvSpPr/>
          <p:nvPr/>
        </p:nvSpPr>
        <p:spPr>
          <a:xfrm>
            <a:off x="5531760" y="5257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as de soi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07960" y="5257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Verdana"/>
              </a:rPr>
              <a:t>Attention Contin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41BF-8444-4228-9669-81084614A4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8796-F2D8-4DA2-A0AD-B146258F80D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estion des color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la procédure établie pour les préparer ou les reconstitu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te : contenu, concentration, date de préparation et de première utilisation, de péremption, initiales du prépar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age appropr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3AE9-1F83-4945-915F-785D448F03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28D7-0E8B-4E0F-A03C-1DDF11654E7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 des souch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pproprié pour des souches particuliè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cation avec des organismes conn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pour vérifier si précipitation ou crista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si contaminants tels que bactéries et champign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hematol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657600" y="441972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auch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Wright 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roit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Gram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5" name="Picture 8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6472-B492-4D4C-91E5-FAF02F08EB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DE5D-9E6F-4CAD-85E0-13C18B70A31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loration de Gram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0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38088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Verdana"/>
              </a:rPr>
              <a:t>Bonne Qualité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647240" y="50292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alité médiocr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7605-91BB-4ABF-A5B8-ABE771DBB6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3DA8-4FD4-4AF8-8F37-BC28A30E65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C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érifier la performance de tous les mil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« maison » : tous les l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du commerce : seulement nouveau l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10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2"/>
          <p:cNvSpPr/>
          <p:nvPr/>
        </p:nvSpPr>
        <p:spPr>
          <a:xfrm>
            <a:off x="3429000" y="3505320"/>
            <a:ext cx="2438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Q MacConkey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che: lactose -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oite: lactose +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90AC-7877-424D-9C65-F6C3624974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9480" y="3200400"/>
            <a:ext cx="8229600" cy="3933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Le sang humai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ne devrait pas être utilisé car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tion entre les lo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contenir des substances inhibitrices, y compris des antibiotiqu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être dangereux (par exemple virus de l’hépatit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Picture 39" descr="bio_hazrd_red_blk_cdc"/>
          <p:cNvPicPr/>
          <p:nvPr/>
        </p:nvPicPr>
        <p:blipFill>
          <a:blip r:embed="rId1"/>
          <a:stretch/>
        </p:blipFill>
        <p:spPr>
          <a:xfrm>
            <a:off x="5562720" y="5931000"/>
            <a:ext cx="1189080" cy="9270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920C-E108-480E-B250-C7D86032ED3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milieux à év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8" name="Group 7"/>
          <p:cNvGrpSpPr/>
          <p:nvPr/>
        </p:nvGrpSpPr>
        <p:grpSpPr>
          <a:xfrm>
            <a:off x="4114800" y="1143000"/>
            <a:ext cx="2514600" cy="914400"/>
            <a:chOff x="4114800" y="1143000"/>
            <a:chExt cx="2514600" cy="914400"/>
          </a:xfrm>
        </p:grpSpPr>
        <p:sp>
          <p:nvSpPr>
            <p:cNvPr id="229" name="AutoShape 8"/>
            <p:cNvSpPr/>
            <p:nvPr/>
          </p:nvSpPr>
          <p:spPr>
            <a:xfrm>
              <a:off x="4193280" y="160020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AutoShape 9"/>
            <p:cNvSpPr/>
            <p:nvPr/>
          </p:nvSpPr>
          <p:spPr>
            <a:xfrm>
              <a:off x="4114800" y="11430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3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3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4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4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4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50" name="Text Box 32"/>
          <p:cNvSpPr/>
          <p:nvPr/>
        </p:nvSpPr>
        <p:spPr>
          <a:xfrm>
            <a:off x="782280" y="1523880"/>
            <a:ext cx="26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érim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hydrat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miné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F4F2-C0E0-4C1F-A9A1-F940763EF9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3" name="Picture 7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D496-C889-44FD-B37D-DBAC58D2CC5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qualité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ervez un enregistrement des milieux préparés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nregistrez les résultats dans un registre dédié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H, stérilité, fertilité avec cultures de collection, réponse biochimique des cultures de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réquenc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nalyser chaque nouveau lot ou numéro de 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D428-E01D-4095-98B3-E907E25B72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72C5-E4E9-47D9-BE16-73A16476F34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aire la différence entre les contrôles intégrés et les autres contrô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utiliser les souches de contrôle pour le contrôle qualité en microbiolog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cuter l’utilisation du contrôle qualité pour les colorants utilisés lors d’examens microscop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méthodes pour vérifier la performance des milieux microbiologiqu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1E19-554A-4FC2-9324-52F2344468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1CF2-7442-4BFD-8AC2-C6590CDDC7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tests qualitatifs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onnent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a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e résultat numériqu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Test semi quantitatifs donnent une est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réer un programme de CQ pour les test qualitatifs et semi quantitati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B1C6-2C15-4D70-90A9-064A9AE2D7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 de CQ suivies par TOUT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jours enregistrer les résultats du CQ et les actions corr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i résultats de CQ pas acceptables, PAS de compte rend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BA8D-5A07-4FF1-AE88-080C5BF97DD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u pied de page 3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242C-CC30-474B-8D14-CF14682F62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11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631800"/>
            <a:ext cx="53337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CBD8-4D6A-41C6-BAB6-8421908B02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 laboratoire A fait une culture et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est identifié 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mesures de CQ pouvez vous utiliser pour confirmer que la souche a bien été identifiée 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5545-9D50-409B-BF1E-4A383B5FAF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6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5029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6E6E-B63A-40E4-833F-979B8D0E2A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e tests qualitatifs ou semi quantita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amens microscop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ndelett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sér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microbi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te réaction qui ne donne pas de résultat numér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D5A5-6E89-40C1-A278-2AFE153A6E8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Picture 7" descr="micro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gglut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ttp://www.academic.marist.edu/~jzmz/methods/wbcrbc.jpg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B029-7EF0-41BB-B6EE-0924C51A26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cepts import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 l’échantill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étence du personn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ance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de contrô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s colorants, milieux et réa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servation des regist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7506-927A-4284-91EE-9218579C6DA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163A-DB55-4C0E-8755-3100AF1F87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qui imitent les échantillons de pati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ultures de colle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8C22-31C7-4356-B47A-A5A6B1F66A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égrés dans le kit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ssés automatiquement avec chaque 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certains aspects de la performance du k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’évaluent pas tout le processus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28BC-C33C-4BFB-9659-099A430CF3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traditionne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nt une réactivité con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itent les échantillons de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l’intégrité de tout le système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dolmazonv</cp:lastModifiedBy>
  <dcterms:modified xsi:type="dcterms:W3CDTF">2010-04-07T17:00:08Z</dcterms:modified>
  <cp:revision>479</cp:revision>
  <dc:subject/>
  <dc:title>Slide 1</dc:title>
</cp:coreProperties>
</file>